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2F5-7A21-4F54-BCA0-D53432BF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9EF-A184-4740-8662-266C2EAF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313-226D-427F-B926-3613E83C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42D-DA59-41A7-952B-1E4DEF92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091-933E-472E-95A4-1DF3EB79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E77-0E56-41C9-AE91-5F5F2BD9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50A-AEE1-4B62-98B3-4259FB0D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336-8AD2-42BE-91DC-5DA028F3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971-905C-4E8F-A1B4-C58D831B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EA9-D58D-473D-8E81-B2B3774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292-D3C8-4B19-B878-026CBFE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263-E82D-41AE-84D2-079E11F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4578-584E-4743-8C53-8E047A0016B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320" y="4500720"/>
            <a:ext cx="83581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К «Английский язык» авт.  О. В. Афанасьева, И. В. Михеев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12600"/>
            <a:ext cx="8156880" cy="6120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714240" y="350028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втор работы – учитель английского языка Порожняя Наталья Алексеевна, МБОУ СОШ №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89298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n said:”Jack went home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n said Jack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gone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m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85816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d said:”I have done it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d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xplained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had done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evin said: “I have been coughing for a week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evin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xplained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had been coughing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a wee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560" y="78588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said: “We shall win the game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said we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ould win</a:t>
            </a: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game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re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the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is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at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day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at day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go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efo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w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en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se      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os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esterday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day befo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st week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previous week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morrow          the next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вправо 5"/>
          <p:cNvSpPr/>
          <p:nvPr/>
        </p:nvSpPr>
        <p:spPr>
          <a:xfrm>
            <a:off x="3286080" y="514368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Стрелка вправо 6"/>
          <p:cNvSpPr/>
          <p:nvPr/>
        </p:nvSpPr>
        <p:spPr>
          <a:xfrm>
            <a:off x="3357720" y="314316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Стрелка вправо 7"/>
          <p:cNvSpPr/>
          <p:nvPr/>
        </p:nvSpPr>
        <p:spPr>
          <a:xfrm>
            <a:off x="3357720" y="37861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Стрелка вправо 8"/>
          <p:cNvSpPr/>
          <p:nvPr/>
        </p:nvSpPr>
        <p:spPr>
          <a:xfrm>
            <a:off x="3357720" y="45007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Стрелка вправо 9"/>
          <p:cNvSpPr/>
          <p:nvPr/>
        </p:nvSpPr>
        <p:spPr>
          <a:xfrm>
            <a:off x="3357720" y="5786280"/>
            <a:ext cx="714240" cy="357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трелка вправо 10"/>
          <p:cNvSpPr/>
          <p:nvPr/>
        </p:nvSpPr>
        <p:spPr>
          <a:xfrm>
            <a:off x="3286080" y="114300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трелка вправо 11"/>
          <p:cNvSpPr/>
          <p:nvPr/>
        </p:nvSpPr>
        <p:spPr>
          <a:xfrm>
            <a:off x="3357720" y="178596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трелка вправо 12"/>
          <p:cNvSpPr/>
          <p:nvPr/>
        </p:nvSpPr>
        <p:spPr>
          <a:xfrm>
            <a:off x="3357720" y="2500200"/>
            <a:ext cx="714240" cy="357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трелка вправо 13"/>
          <p:cNvSpPr/>
          <p:nvPr/>
        </p:nvSpPr>
        <p:spPr>
          <a:xfrm>
            <a:off x="3357720" y="50004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He said:”I can’t translate </a:t>
            </a:r>
            <a:r>
              <a:rPr b="0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is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rticle.”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said he couldn’t translat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t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:”I was </a:t>
            </a:r>
            <a:r>
              <a:rPr b="0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re yesterday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”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said that he had been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re the day before.</a:t>
            </a: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71400"/>
            <a:ext cx="8229600" cy="26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прямая речь является вопросительным предложением (</a:t>
            </a: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ым вопросом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то при обращении в косвенную она становится дополнительным придаточным предложением (</a:t>
            </a: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венным вопросом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типа прямых вопрос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9" name="Прямая со стрелкой 5"/>
          <p:cNvCxnSpPr/>
          <p:nvPr/>
        </p:nvCxnSpPr>
        <p:spPr>
          <a:xfrm flipH="1">
            <a:off x="2642760" y="2142000"/>
            <a:ext cx="1215360" cy="5007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0" name="Прямая со стрелкой 7"/>
          <p:cNvCxnSpPr/>
          <p:nvPr/>
        </p:nvCxnSpPr>
        <p:spPr>
          <a:xfrm>
            <a:off x="5643360" y="2143080"/>
            <a:ext cx="1215000" cy="57240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1" name="TextBox 8"/>
          <p:cNvSpPr/>
          <p:nvPr/>
        </p:nvSpPr>
        <p:spPr>
          <a:xfrm>
            <a:off x="500040" y="3071880"/>
            <a:ext cx="364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ециальные вопросы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чинающиеся 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o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which, whose, when, why, how, how many, how much, how long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500800" y="3071880"/>
            <a:ext cx="307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щие вопросы, начинающиеся с вспомогательного или модального глаго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ой вопрос начинается с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просительного слова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группы слов, то при обращении его в косвенный вопрос производятся следующие изменения:</a:t>
            </a:r>
            <a:br>
              <a:rPr sz="3200"/>
            </a:b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ительный знак опускается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и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ительный порядок слов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рямом вопросе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меняется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рядком слов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ествовательного предложения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еми же изменениями, как и в повествовательных предложениях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просительное слово служит для присоединения косвенного вопроса к главному предложени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9288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He asked me:”Why have you come so late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y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come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 late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asked me:”Where do you live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re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ve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44280"/>
          <a:ext cx="9144000" cy="6742440"/>
        </p:xfrm>
        <a:graphic>
          <a:graphicData uri="http://schemas.openxmlformats.org/drawingml/2006/table">
            <a:tbl>
              <a:tblPr/>
              <a:tblGrid>
                <a:gridCol w="4643280"/>
                <a:gridCol w="4500720"/>
              </a:tblGrid>
              <a:tr h="67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7">
            <a:hlinkClick r:id="" action="ppaction://hlinkshowjump?jump=nextslide"/>
          </p:cNvPr>
          <p:cNvSpPr/>
          <p:nvPr/>
        </p:nvSpPr>
        <p:spPr>
          <a:xfrm>
            <a:off x="3643200" y="6000840"/>
            <a:ext cx="428760" cy="376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Управляющая кнопка: назад 10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400640" y="463680"/>
            <a:ext cx="5060880" cy="2779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714240" y="1357200"/>
            <a:ext cx="3643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Прямоугольник 13" descr=""/>
          <p:cNvPicPr/>
          <p:nvPr/>
        </p:nvPicPr>
        <p:blipFill>
          <a:blip r:embed="rId2"/>
          <a:stretch/>
        </p:blipFill>
        <p:spPr>
          <a:xfrm>
            <a:off x="463680" y="549360"/>
            <a:ext cx="4321080" cy="2230200"/>
          </a:xfrm>
          <a:prstGeom prst="rect">
            <a:avLst/>
          </a:prstGeom>
          <a:ln w="0">
            <a:noFill/>
          </a:ln>
        </p:spPr>
      </p:pic>
      <p:sp>
        <p:nvSpPr>
          <p:cNvPr id="50" name="Управляющая кнопка: настраиваемая 12">
            <a:hlinkClick r:id="" action="ppaction://hlinkshowjump?jump=lastslide"/>
          </p:cNvPr>
          <p:cNvSpPr/>
          <p:nvPr/>
        </p:nvSpPr>
        <p:spPr>
          <a:xfrm>
            <a:off x="8215200" y="592920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ой вопрос начинается с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помогательного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дального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гол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о косвенный вопрос присоединяется к главному предложению при помощи союзов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ther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f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имеющих значение частицы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Далее производятся те же изменения, как и при обращении в косвенную речь вопроса, начинающегося с вопросительного сло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She asked:”Did John read the book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 asked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f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John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rea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book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asked me: ’’Will you be here tomorrow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ther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 shoul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re the next day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ая речь представляет собой повелительное предложение, то при обращении её в косвенную производятся следующие изменения: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прямая речь –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казание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о глагол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say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казать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словах, вводящих прямую речь, 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меняется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лаголом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tell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леть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order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ывать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Если прямая речь – 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ьба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о глагол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say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яется глаголом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ask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ить</a:t>
            </a:r>
            <a:r>
              <a:rPr b="0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лительное наклонение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яется в косвенной речи 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инитивом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трицательная форма заменяется 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инитивом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 частицей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She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i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o him:”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e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t five o’clock.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l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him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come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five o’clock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I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i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er:”Please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ring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 a glass of water.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ke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her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bring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 a glass of wa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oose the correct verb for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doctor  said to me that I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shall/should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t for a week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 that he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 going/was going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learn Spanish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said that they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were/ had been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iends at school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asked if her knowledge of French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/was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he teacher asked who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/was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ent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that day/today)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He asked me where I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study/studied)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Mother ordered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not to play/to not play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the stree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560" y="642600"/>
            <a:ext cx="9001080" cy="34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The doctor  said to me that I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ould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rest for a week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 that he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 going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learn Spanish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said that they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been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iends at school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asked if her knowledge of French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d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he teacher asked who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resent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t day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He asked me where I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udied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Mother ordered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t to play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the stre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them into Reported speech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“I’m going to the seaside soon,” she sai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“Does this bus stop next station?” asked Hele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asked her:”Are you working now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he teacher asked:”Can you play the piano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I asked her:”Why are you late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“Who has broken the window?” the teacher aske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“Look at this paper” he sai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“Don’t go alone in the evening,” she said.</a:t>
            </a:r>
            <a:br>
              <a:rPr sz="3200"/>
            </a:br>
            <a:br>
              <a:rPr sz="43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She said that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going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the seaside soo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len asked if that bus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stopped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llowing statio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asked her if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working the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he teacher asked if I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could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lay the piano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I asked why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te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The teacher asked who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ad broken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window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He said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o look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hat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aper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The teacher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old not to go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one in the eve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Английский язык. 8 кл.: учеб. для общеобразоват. учреждений/ О. В. Авфанасьева, И. В. Михеева.-М.: Дрофа,2009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Английский язык.7-8 классы. Грамматика, лексика, чтение. Тесты и упражнения. Тренировочная тетрадь. Фоменко Е. А., Долгопольская И. Б. – Ростов-на-Дону: Легион, 2011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Практическая грамматика английского языка. Израилевич Е. Е., Качалова К. Н. – Москва, «Юнвес», 199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настраиваемая 4"/>
          <p:cNvSpPr/>
          <p:nvPr/>
        </p:nvSpPr>
        <p:spPr>
          <a:xfrm>
            <a:off x="807228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643800"/>
        </p:xfrm>
        <a:graphic>
          <a:graphicData uri="http://schemas.openxmlformats.org/drawingml/2006/table">
            <a:tbl>
              <a:tblPr/>
              <a:tblGrid>
                <a:gridCol w="2065320"/>
                <a:gridCol w="2433600"/>
                <a:gridCol w="2432160"/>
                <a:gridCol w="221292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ила последовательности времё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казательных  местоимений и наречий времени и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итель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ециаль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велитель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Test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Test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34"/>
          <p:cNvSpPr/>
          <p:nvPr/>
        </p:nvSpPr>
        <p:spPr>
          <a:xfrm>
            <a:off x="1500120" y="17859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3929040" y="17859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6"/>
          <p:cNvSpPr/>
          <p:nvPr/>
        </p:nvSpPr>
        <p:spPr>
          <a:xfrm>
            <a:off x="6215040" y="1714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37"/>
          <p:cNvSpPr/>
          <p:nvPr/>
        </p:nvSpPr>
        <p:spPr>
          <a:xfrm>
            <a:off x="8501040" y="1714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1571760" y="38577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000680" y="4000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6286680" y="392904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8501040" y="38577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4"/>
          <p:cNvSpPr/>
          <p:nvPr/>
        </p:nvSpPr>
        <p:spPr>
          <a:xfrm>
            <a:off x="164304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46"/>
          <p:cNvSpPr/>
          <p:nvPr/>
        </p:nvSpPr>
        <p:spPr>
          <a:xfrm>
            <a:off x="850104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47"/>
          <p:cNvSpPr/>
          <p:nvPr/>
        </p:nvSpPr>
        <p:spPr>
          <a:xfrm>
            <a:off x="635796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48"/>
          <p:cNvSpPr/>
          <p:nvPr/>
        </p:nvSpPr>
        <p:spPr>
          <a:xfrm>
            <a:off x="385776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AutoShape 54"/>
          <p:cNvSpPr/>
          <p:nvPr/>
        </p:nvSpPr>
        <p:spPr>
          <a:xfrm>
            <a:off x="285840" y="38577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ь какого-нибудь лица, передаваемая буквально так, как она была произнесена, называется прямой речью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 speech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ь, передаваемая не слово в слово, а только по содержанию, в виде дополнительных придаточных предложений, называется косвенной речью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orted speech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28840" y="5286240"/>
            <a:ext cx="640080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000160"/>
            <a:ext cx="8483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ая речь может представлять собой:</a:t>
            </a:r>
            <a:br>
              <a:rPr sz="49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.повествовательное предложение</a:t>
            </a:r>
            <a:br>
              <a:rPr sz="48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2.вопросительное предложение</a:t>
            </a:r>
            <a:br>
              <a:rPr sz="48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3.повелительное предлож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88581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458200" y="6324480"/>
            <a:ext cx="38088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571320"/>
            <a:ext cx="3786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Simp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Simpl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5214960" y="357120"/>
            <a:ext cx="364320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71720" y="2571840"/>
            <a:ext cx="29289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Simp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143680" y="2571840"/>
            <a:ext cx="37861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00040" y="4714920"/>
            <a:ext cx="43578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erfec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Стрелка вниз 9"/>
          <p:cNvSpPr/>
          <p:nvPr/>
        </p:nvSpPr>
        <p:spPr>
          <a:xfrm>
            <a:off x="1643040" y="107172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Стрелка вниз 10"/>
          <p:cNvSpPr/>
          <p:nvPr/>
        </p:nvSpPr>
        <p:spPr>
          <a:xfrm>
            <a:off x="6286680" y="1357200"/>
            <a:ext cx="57132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Стрелка вниз 11"/>
          <p:cNvSpPr/>
          <p:nvPr/>
        </p:nvSpPr>
        <p:spPr>
          <a:xfrm>
            <a:off x="1643040" y="314316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Стрелка вниз 12"/>
          <p:cNvSpPr/>
          <p:nvPr/>
        </p:nvSpPr>
        <p:spPr>
          <a:xfrm>
            <a:off x="5786280" y="314316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Стрелка вниз 13"/>
          <p:cNvSpPr/>
          <p:nvPr/>
        </p:nvSpPr>
        <p:spPr>
          <a:xfrm>
            <a:off x="1928880" y="5286240"/>
            <a:ext cx="57132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5286240" y="4429080"/>
            <a:ext cx="38577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Simp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-in-the-pa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Стрелка вниз 15"/>
          <p:cNvSpPr/>
          <p:nvPr/>
        </p:nvSpPr>
        <p:spPr>
          <a:xfrm>
            <a:off x="6143760" y="500076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29289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go/go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8534520" y="6324480"/>
            <a:ext cx="38088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286240" y="285840"/>
            <a:ext cx="31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m/is/are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as/were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143000" y="1928880"/>
            <a:ext cx="257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429160" y="200016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ve / has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857160" y="4000680"/>
            <a:ext cx="357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ve/has been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been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Стрелка вниз 10"/>
          <p:cNvSpPr/>
          <p:nvPr/>
        </p:nvSpPr>
        <p:spPr>
          <a:xfrm>
            <a:off x="1428840" y="92880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Стрелка вниз 11"/>
          <p:cNvSpPr/>
          <p:nvPr/>
        </p:nvSpPr>
        <p:spPr>
          <a:xfrm>
            <a:off x="6286680" y="92880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трелка вниз 12"/>
          <p:cNvSpPr/>
          <p:nvPr/>
        </p:nvSpPr>
        <p:spPr>
          <a:xfrm>
            <a:off x="6357960" y="271476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трелка вниз 13"/>
          <p:cNvSpPr/>
          <p:nvPr/>
        </p:nvSpPr>
        <p:spPr>
          <a:xfrm>
            <a:off x="1500120" y="257184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трелка вниз 14"/>
          <p:cNvSpPr/>
          <p:nvPr/>
        </p:nvSpPr>
        <p:spPr>
          <a:xfrm>
            <a:off x="1571760" y="4714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5357880" y="4000680"/>
            <a:ext cx="328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shall/will 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should/would 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Стрелка вниз 16"/>
          <p:cNvSpPr/>
          <p:nvPr/>
        </p:nvSpPr>
        <p:spPr>
          <a:xfrm>
            <a:off x="6286680" y="457200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hn said: “I live in New York.”</a:t>
            </a:r>
            <a:br>
              <a:rPr sz="5400"/>
            </a:b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hn said (that)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lived </a:t>
            </a: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New York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643960" cy="38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b said: “I am learning French.”</a:t>
            </a: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b said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was learning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n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458200" y="6248520"/>
            <a:ext cx="380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7:26:35Z</dcterms:created>
  <dc:creator>user</dc:creator>
  <dc:description/>
  <dc:language>en-US</dc:language>
  <cp:lastModifiedBy>Дом</cp:lastModifiedBy>
  <dcterms:modified xsi:type="dcterms:W3CDTF">2012-03-30T14:35:13Z</dcterms:modified>
  <cp:revision>63</cp:revision>
  <dc:subject/>
  <dc:title>Слайд 1</dc:title>
</cp:coreProperties>
</file>